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766-9EB2-401F-948A-B9760B91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18D-223C-4848-B0F3-A9FC1FCC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8C5-C7EA-4A58-8903-0591CA78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F11-2715-4CE5-998E-16F61D8F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368D-5FEE-4364-982E-1AB7D39E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13BA-63F2-4995-A3BB-323BB22E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DD58-5044-4018-960F-61325D1D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94DB-7352-496D-BF5D-F5E6671D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AC9E-B039-4DB1-8A11-AF33A924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6868-D6DB-4C4D-98C3-1703846C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3287-9D8D-4BE3-9E42-E42FE534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21F-F877-414F-AA4B-20EA23E5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7803-196B-44CE-9F79-079B17A1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4B09-CE9F-4D5B-A14D-519E2B56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2D91-E5DD-4BA0-85FF-97D0C3B3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99A9-4687-488C-86D2-CA3A3AB3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7276-5791-49C9-803F-D89314BA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54F2-070D-46B4-B015-09771B4A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62327-76F8-4D4E-9BBA-3505BE4C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053E-001B-4ED4-B6A1-1A0F7CD7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4C8F-942A-44A1-B51B-1A225423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BB8E-ABC9-408C-A071-56AFFC21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953-6407-438E-9763-080504B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6073-14D2-451F-B137-BF0D48B0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6A86-D54E-43AD-8752-411BF857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A4C50-DB33-4863-9B62-BC2E19CC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95558-2880-4BAC-A254-7788B13E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A512-0504-462D-83ED-7F082CC9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A675-BE43-43F8-8755-866AE3C9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554F4-F17C-4CFA-A32D-A08873EA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70E87-3B00-4BF3-A13C-D0131A23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CD998-06D7-4E48-8FC9-192BAEBC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82E6-620C-4133-97A0-FD68CF3C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3CF-22E8-43FA-8ACC-5A0531CF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01B53-08F5-4084-BADE-87E850EA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E7858-33E4-4D4D-A317-CFD4B4EA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E78F4-DC54-4BAD-91DF-4AED4A81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8D1F3-4DD1-4044-AD79-7F29ADE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075CC-BA0C-4937-A544-750EC20D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3A29-35FE-4945-A2A0-B43D884C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86D6-1A41-4B52-A449-67FC0937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84181-D318-400A-97EF-4F3C90DF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35B10-D6AF-4F5E-A6FA-789A6B48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C22B9-1B91-49C9-957C-50ACBBEB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A62-26E5-4F7A-8026-7AAE6CCA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D59EA-579E-4A95-8496-CB4C3D94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AA118-B8F1-4E44-BAA1-991447B5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B27F0-387B-4685-9ACA-E902B9E6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C2865-5F37-46B1-9629-F0C6B67C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44AA-70DF-48E3-A38C-17E29B90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CF40E-F3CA-4DA9-A9F9-7436B9E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5CD9-08ED-4D84-9136-CFB16AB7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D716-9926-4EED-A91B-DC9AB620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09F3-2999-43C6-BFC9-2A57E4C8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6245-A1E7-46CB-8AF1-FD703865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977-7640-47FE-9A0C-E509F522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EB8CC-9214-4B91-A4F8-7B4E947D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06D91-C137-4B27-9F9F-93742988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02AA8-9CF6-4B99-AFE0-E3037D64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5B800-DEBB-47C8-8A9F-BE24947B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34580-5AD0-4E85-847C-935EB521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E9B7-2BF2-4111-8EC1-706EFB38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F7D96-FC13-41A3-B5AC-807A301B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7D783-721D-474B-B433-9E0A4C5A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A521-DC79-4E3F-8EC1-790B8A2F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8F3D6-CB76-48AD-A9D9-C372716B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A62-5F34-4D99-A5FA-9635FFE4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4A607-52D1-4B91-8860-4CC3AF51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2DAE1-E5E4-4E8A-AAA1-23F5C67A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9797-CFF6-44B5-83FF-934AE0E0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EE2-3C3E-49B5-A5B5-0B889F24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D70-DC5F-4599-9620-F635CFA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9189-4172-4E09-A748-6C781C180550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451C-761F-41F8-AC2D-F3746E10AB55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56B5-0DEE-427C-BA4C-28003A275B6D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2B12-9C31-4157-966E-90ECF516FA29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973C-DB0D-4113-87F3-E50A9CC734F7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AA60-272C-475C-85EB-9A66F9A353DE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3"/>
          <p:cNvSpPr/>
          <p:nvPr/>
        </p:nvSpPr>
        <p:spPr>
          <a:xfrm>
            <a:off x="762120" y="288756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есветайло Н.Я.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990720"/>
          <a:ext cx="8458200" cy="4911480"/>
        </p:xfrm>
        <a:graphic>
          <a:graphicData uri="http://schemas.openxmlformats.org/drawingml/2006/table">
            <a:tbl>
              <a:tblPr/>
              <a:tblGrid>
                <a:gridCol w="2667240"/>
                <a:gridCol w="457200"/>
                <a:gridCol w="609480"/>
                <a:gridCol w="609480"/>
                <a:gridCol w="533520"/>
                <a:gridCol w="533520"/>
                <a:gridCol w="761760"/>
                <a:gridCol w="1295640"/>
                <a:gridCol w="990360"/>
              </a:tblGrid>
              <a:tr h="244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панс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  наркоман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з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их сурдологические для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2" name="Рисунок 6" descr=""/>
          <p:cNvPicPr/>
          <p:nvPr/>
        </p:nvPicPr>
        <p:blipFill>
          <a:blip r:embed="rId1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"/>
          <p:cNvSpPr/>
          <p:nvPr/>
        </p:nvSpPr>
        <p:spPr>
          <a:xfrm>
            <a:off x="4201200" y="457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: скругленные углы 1"/>
          <p:cNvSpPr/>
          <p:nvPr/>
        </p:nvSpPr>
        <p:spPr>
          <a:xfrm>
            <a:off x="3657600" y="1990800"/>
            <a:ext cx="4983120" cy="1165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е 6 «Диспансеры» указываются сведения о диспансе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: скругленные углы 2"/>
          <p:cNvSpPr/>
          <p:nvPr/>
        </p:nvSpPr>
        <p:spPr>
          <a:xfrm>
            <a:off x="3657600" y="3336840"/>
            <a:ext cx="49831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ам 7-21 указываются сведения о цент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: скругленные углы 3"/>
          <p:cNvSpPr/>
          <p:nvPr/>
        </p:nvSpPr>
        <p:spPr>
          <a:xfrm>
            <a:off x="3657600" y="4403880"/>
            <a:ext cx="4983120" cy="13111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Если строка 7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больше суммы строк 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c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8 по 14, с 15 по 21 за счет «прочих» центров, непоименованных в боковике таблицы (разницу пояснить) – есть строка –специализированные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Стрелка: вниз 4"/>
          <p:cNvSpPr/>
          <p:nvPr/>
        </p:nvSpPr>
        <p:spPr>
          <a:xfrm rot="6678600">
            <a:off x="2618280" y="5305680"/>
            <a:ext cx="485640" cy="15195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d4f5f7"/>
          </a:solidFill>
          <a:ln w="158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: скругленные углы 5"/>
          <p:cNvSpPr/>
          <p:nvPr/>
        </p:nvSpPr>
        <p:spPr>
          <a:xfrm>
            <a:off x="3657600" y="5867280"/>
            <a:ext cx="4971960" cy="533520"/>
          </a:xfrm>
          <a:prstGeom prst="roundRect">
            <a:avLst>
              <a:gd name="adj" fmla="val 16667"/>
            </a:avLst>
          </a:prstGeom>
          <a:solidFill>
            <a:srgbClr val="d4f5f7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6295"/>
                </a:solidFill>
                <a:latin typeface="Calibri"/>
              </a:rPr>
              <a:t>Введен новый тип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4"/>
          <p:cNvSpPr/>
          <p:nvPr/>
        </p:nvSpPr>
        <p:spPr>
          <a:xfrm>
            <a:off x="103320" y="0"/>
            <a:ext cx="9040680" cy="7300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Рисунок 5" descr=""/>
          <p:cNvPicPr/>
          <p:nvPr/>
        </p:nvPicPr>
        <p:blipFill>
          <a:blip r:embed="rId2"/>
          <a:stretch/>
        </p:blipFill>
        <p:spPr>
          <a:xfrm>
            <a:off x="8562960" y="11448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: скругленные углы 1"/>
          <p:cNvSpPr/>
          <p:nvPr/>
        </p:nvSpPr>
        <p:spPr>
          <a:xfrm>
            <a:off x="2895480" y="2665440"/>
            <a:ext cx="56674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ДНЕВНЫЕ СТАЦИОНАРЫ П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АМ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оугольник: скругленные углы 2"/>
          <p:cNvSpPr/>
          <p:nvPr/>
        </p:nvSpPr>
        <p:spPr>
          <a:xfrm>
            <a:off x="6400800" y="4191120"/>
            <a:ext cx="21621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50-06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8"/>
          <p:cNvSpPr/>
          <p:nvPr/>
        </p:nvSpPr>
        <p:spPr>
          <a:xfrm>
            <a:off x="380880" y="457200"/>
            <a:ext cx="160020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25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04920" y="838080"/>
          <a:ext cx="8686800" cy="5181840"/>
        </p:xfrm>
        <a:graphic>
          <a:graphicData uri="http://schemas.openxmlformats.org/drawingml/2006/table">
            <a:tbl>
              <a:tblPr/>
              <a:tblGrid>
                <a:gridCol w="1752480"/>
                <a:gridCol w="380880"/>
                <a:gridCol w="1371600"/>
                <a:gridCol w="1447920"/>
                <a:gridCol w="1523880"/>
                <a:gridCol w="1067040"/>
                <a:gridCol w="1143000"/>
              </a:tblGrid>
              <a:tr h="426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дневные стацио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1" lang="ru-RU" sz="12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</a:rPr>
                        <a:t>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,,,,,,,,,,,,,,,,,,,,,,,,,,,,,,,,,,,,,,,,,,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дицинские организаци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TextBox 3"/>
          <p:cNvSpPr/>
          <p:nvPr/>
        </p:nvSpPr>
        <p:spPr>
          <a:xfrm>
            <a:off x="4667760" y="4572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Прямоугольник: скругленные углы 1"/>
          <p:cNvSpPr/>
          <p:nvPr/>
        </p:nvSpPr>
        <p:spPr>
          <a:xfrm>
            <a:off x="2590920" y="2438280"/>
            <a:ext cx="6095880" cy="533520"/>
          </a:xfrm>
          <a:prstGeom prst="roundRect">
            <a:avLst>
              <a:gd name="adj" fmla="val 16667"/>
            </a:avLst>
          </a:prstGeom>
          <a:solidFill>
            <a:srgbClr val="d9f1ea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указать число медицинских организаций, имеющих дневные стационары при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ациона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: скругленные углы 3"/>
          <p:cNvSpPr/>
          <p:nvPr/>
        </p:nvSpPr>
        <p:spPr>
          <a:xfrm>
            <a:off x="2590920" y="3162240"/>
            <a:ext cx="6095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может быть меньше сумме граф 4+5, так как медицинская организация может иметь и дневной стационар для взрослых, и дневной стационар для де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: скругленные углы 4"/>
          <p:cNvSpPr/>
          <p:nvPr/>
        </p:nvSpPr>
        <p:spPr>
          <a:xfrm>
            <a:off x="2593800" y="4794120"/>
            <a:ext cx="6096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менование – «хозрасчетные…» измене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Прямая со стрелкой 6"/>
          <p:cNvCxnSpPr/>
          <p:nvPr/>
        </p:nvCxnSpPr>
        <p:spPr>
          <a:xfrm flipH="1">
            <a:off x="1981080" y="5250960"/>
            <a:ext cx="603720" cy="235800"/>
          </a:xfrm>
          <a:prstGeom prst="straightConnector1">
            <a:avLst/>
          </a:prstGeom>
          <a:ln w="34920">
            <a:solidFill>
              <a:srgbClr val="2e663e"/>
            </a:solidFill>
            <a:miter/>
            <a:tailEnd len="med" type="triangle" w="med"/>
          </a:ln>
        </p:spPr>
      </p:cxnSp>
      <p:sp>
        <p:nvSpPr>
          <p:cNvPr id="342" name="Прямоугольник 9"/>
          <p:cNvSpPr/>
          <p:nvPr/>
        </p:nvSpPr>
        <p:spPr>
          <a:xfrm>
            <a:off x="228600" y="6062760"/>
            <a:ext cx="8610480" cy="554040"/>
          </a:xfrm>
          <a:prstGeom prst="rect">
            <a:avLst/>
          </a:prstGeom>
          <a:solidFill>
            <a:srgbClr val="e0ede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Дневные стационары, открытые в домах ребенка, санаториях показываются по строке 46 (пояснительная прилагается). Наличие лицензии обязательно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: скругленные углы 2"/>
          <p:cNvSpPr/>
          <p:nvPr/>
        </p:nvSpPr>
        <p:spPr>
          <a:xfrm>
            <a:off x="2286000" y="1143000"/>
            <a:ext cx="6324480" cy="18288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БЩЕЕ ЧИСЛО ВРАЧЕБНЫХ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ПОСЕЩЕНИ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ЕЩ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ТОМАТОЛОГА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ЗУБНЫМ ВРАЧ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оугольник: скругленные углы 3"/>
          <p:cNvSpPr/>
          <p:nvPr/>
        </p:nvSpPr>
        <p:spPr>
          <a:xfrm>
            <a:off x="5943600" y="3505320"/>
            <a:ext cx="2590920" cy="121896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8319960" y="47520"/>
            <a:ext cx="4287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80880" y="285840"/>
            <a:ext cx="167652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2280" y="990720"/>
          <a:ext cx="8763120" cy="5740200"/>
        </p:xfrm>
        <a:graphic>
          <a:graphicData uri="http://schemas.openxmlformats.org/drawingml/2006/table">
            <a:tbl>
              <a:tblPr/>
              <a:tblGrid>
                <a:gridCol w="2638440"/>
                <a:gridCol w="471600"/>
                <a:gridCol w="547560"/>
                <a:gridCol w="1016280"/>
                <a:gridCol w="546120"/>
                <a:gridCol w="752400"/>
                <a:gridCol w="733320"/>
                <a:gridCol w="838080"/>
                <a:gridCol w="1219320"/>
              </a:tblGrid>
              <a:tr h="4572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мбулатории, поликлиник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.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подразделения, оказывающие медицинскую помощь в амбулаторных условиях (входящие подразделе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 -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0" name="Line 309"/>
          <p:cNvSpPr/>
          <p:nvPr/>
        </p:nvSpPr>
        <p:spPr>
          <a:xfrm>
            <a:off x="2666880" y="6019920"/>
            <a:ext cx="838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6286680" y="3538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: скругленные углы 1"/>
          <p:cNvSpPr/>
          <p:nvPr/>
        </p:nvSpPr>
        <p:spPr>
          <a:xfrm>
            <a:off x="3486240" y="281952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таблицу включаются сведения о врачебных посещениях на основании данных, указанных в таблицах 2100, 2700 и 2105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: скругленные углы 2"/>
          <p:cNvSpPr/>
          <p:nvPr/>
        </p:nvSpPr>
        <p:spPr>
          <a:xfrm>
            <a:off x="3505320" y="5638680"/>
            <a:ext cx="523872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у 11 включаются посещения к врачам медицинских организаций, не указанных в строках с 1 по 10 таблицы, к врачам-стоматологам и зубным врачам санаторно-курортных 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: скругленные углы 3"/>
          <p:cNvSpPr/>
          <p:nvPr/>
        </p:nvSpPr>
        <p:spPr>
          <a:xfrm>
            <a:off x="3581280" y="4724280"/>
            <a:ext cx="5162760" cy="304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Прямая со стрелкой 5"/>
          <p:cNvCxnSpPr/>
          <p:nvPr/>
        </p:nvCxnSpPr>
        <p:spPr>
          <a:xfrm>
            <a:off x="2666520" y="4876560"/>
            <a:ext cx="839160" cy="1080"/>
          </a:xfrm>
          <a:prstGeom prst="straightConnector1">
            <a:avLst/>
          </a:prstGeom>
          <a:ln w="47520">
            <a:solidFill>
              <a:srgbClr val="1cade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8" descr=""/>
          <p:cNvPicPr/>
          <p:nvPr/>
        </p:nvPicPr>
        <p:blipFill>
          <a:blip r:embed="rId1"/>
          <a:stretch/>
        </p:blipFill>
        <p:spPr>
          <a:xfrm>
            <a:off x="8610480" y="71280"/>
            <a:ext cx="428760" cy="5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152280" y="517680"/>
          <a:ext cx="8534520" cy="4462200"/>
        </p:xfrm>
        <a:graphic>
          <a:graphicData uri="http://schemas.openxmlformats.org/drawingml/2006/table">
            <a:tbl>
              <a:tblPr/>
              <a:tblGrid>
                <a:gridCol w="2795760"/>
                <a:gridCol w="376200"/>
                <a:gridCol w="561960"/>
                <a:gridCol w="1131840"/>
                <a:gridCol w="633600"/>
                <a:gridCol w="787320"/>
                <a:gridCol w="709560"/>
                <a:gridCol w="770040"/>
                <a:gridCol w="768240"/>
              </a:tblGrid>
              <a:tr h="152640">
                <a:tc rowSpan="3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27360" rIns="27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-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елям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-ной меди-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59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ока 1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дицинских организациях, </a:t>
                      </a: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!!!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97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по подчиненност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6600">
                <a:tc>
                  <a:txBody>
                    <a:bodyPr lIns="51840" rIns="51840" tIns="0" bIns="0" anchor="ctr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8" name="Прямоугольник: скругленные углы 4"/>
          <p:cNvSpPr/>
          <p:nvPr/>
        </p:nvSpPr>
        <p:spPr>
          <a:xfrm>
            <a:off x="3429000" y="2209680"/>
            <a:ext cx="350532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гр.8 не должна быть ровна стр.12 гр.8+стр.17 гр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по всем графам должна соответствовать ф.30-село, т.е. включать посещения зубн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: скругленные углы 5"/>
          <p:cNvSpPr/>
          <p:nvPr/>
        </p:nvSpPr>
        <p:spPr>
          <a:xfrm>
            <a:off x="914400" y="5486400"/>
            <a:ext cx="7238880" cy="228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гр.4,5 включаем данные из таблицы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5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: скругленные углы 1"/>
          <p:cNvSpPr/>
          <p:nvPr/>
        </p:nvSpPr>
        <p:spPr>
          <a:xfrm>
            <a:off x="2438280" y="2057400"/>
            <a:ext cx="6400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СТОМАТОЛОГИЧЕСК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: скругленные углы 2"/>
          <p:cNvSpPr/>
          <p:nvPr/>
        </p:nvSpPr>
        <p:spPr>
          <a:xfrm>
            <a:off x="6095880" y="35812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9"/>
          <p:cNvSpPr/>
          <p:nvPr/>
        </p:nvSpPr>
        <p:spPr>
          <a:xfrm>
            <a:off x="380880" y="2286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17680" y="685800"/>
          <a:ext cx="8534160" cy="5699160"/>
        </p:xfrm>
        <a:graphic>
          <a:graphicData uri="http://schemas.openxmlformats.org/drawingml/2006/table">
            <a:tbl>
              <a:tblPr/>
              <a:tblGrid>
                <a:gridCol w="2476440"/>
                <a:gridCol w="368280"/>
                <a:gridCol w="552240"/>
                <a:gridCol w="870120"/>
                <a:gridCol w="711000"/>
                <a:gridCol w="632160"/>
                <a:gridCol w="711000"/>
                <a:gridCol w="631800"/>
                <a:gridCol w="633600"/>
                <a:gridCol w="947520"/>
              </a:tblGrid>
              <a:tr h="146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ло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сещения к врачам амбулаторного приема (кроме стоматологов и зубных враче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303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5" name="TextBox 1"/>
          <p:cNvSpPr/>
          <p:nvPr/>
        </p:nvSpPr>
        <p:spPr>
          <a:xfrm>
            <a:off x="4862520" y="11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: скругленные углы 1"/>
          <p:cNvSpPr/>
          <p:nvPr/>
        </p:nvSpPr>
        <p:spPr>
          <a:xfrm>
            <a:off x="3505320" y="2516040"/>
            <a:ext cx="5257800" cy="8384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1-3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 стоматологиче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рофи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: скругленные углы 2"/>
          <p:cNvSpPr/>
          <p:nvPr/>
        </p:nvSpPr>
        <p:spPr>
          <a:xfrm>
            <a:off x="3581280" y="3732120"/>
            <a:ext cx="5181840" cy="1220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4-5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, име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оматологические и ортопедические подразделения</a:t>
            </a:r>
            <a:r>
              <a:rPr b="1" lang="en-US" sz="16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отделения, кабинеты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: скругленные углы 3"/>
          <p:cNvSpPr/>
          <p:nvPr/>
        </p:nvSpPr>
        <p:spPr>
          <a:xfrm>
            <a:off x="3581280" y="5230800"/>
            <a:ext cx="51818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В строку 4 включаются сведени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анаторно-курортным организациям, домам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Прямая со стрелкой 5"/>
          <p:cNvCxnSpPr/>
          <p:nvPr/>
        </p:nvCxnSpPr>
        <p:spPr>
          <a:xfrm flipV="1">
            <a:off x="3352320" y="4495320"/>
            <a:ext cx="229320" cy="1533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87200" y="946080"/>
          <a:ext cx="8839440" cy="43624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85800"/>
                <a:gridCol w="914400"/>
                <a:gridCol w="914400"/>
                <a:gridCol w="838080"/>
                <a:gridCol w="1143000"/>
                <a:gridCol w="914400"/>
                <a:gridCol w="1067040"/>
              </a:tblGrid>
              <a:tr h="1219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-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ужда- лось в са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ниро-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3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по подчиненности  (из стр.1+2+3):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Rectangle 29"/>
          <p:cNvSpPr/>
          <p:nvPr/>
        </p:nvSpPr>
        <p:spPr>
          <a:xfrm>
            <a:off x="457200" y="433440"/>
            <a:ext cx="1600200" cy="380880"/>
          </a:xfrm>
          <a:prstGeom prst="rect">
            <a:avLst/>
          </a:prstGeom>
          <a:solidFill>
            <a:srgbClr val="d4e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оугольник: скругленные углы 1"/>
          <p:cNvSpPr/>
          <p:nvPr/>
        </p:nvSpPr>
        <p:spPr>
          <a:xfrm>
            <a:off x="2666880" y="2529000"/>
            <a:ext cx="6019920" cy="12366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Число посещений по графе 5 сумме строк 6+10 должно быть равно сумме посещений, указанных в ФФСН №30, таблице 2100 (сумма строк с 87 по 91) в графах 3 и 9, а также  таблице 2700 по строке 1, графе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: скругленные углы 2"/>
          <p:cNvSpPr/>
          <p:nvPr/>
        </p:nvSpPr>
        <p:spPr>
          <a:xfrm>
            <a:off x="3048120" y="228600"/>
            <a:ext cx="5943600" cy="58248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6-9 заполняются по данным таблиц 2700 и 2710 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Значения, указанные в графе 7 должны быть не меньше, чем в графе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: скругленные углы 3"/>
          <p:cNvSpPr/>
          <p:nvPr/>
        </p:nvSpPr>
        <p:spPr>
          <a:xfrm>
            <a:off x="187200" y="5510160"/>
            <a:ext cx="88045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строке 10 показываем деятельность клиник Вузов и НИИ как самостоятельных (все графы), так и имеющих стоматологические кабинеты ( графы 5-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в строку 7 показываем только клиники Вузов и НИИ юридические лица. Деятельность клиник Вузов и НИИ, не юридических лиц, остается в строке 1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: скругленные углы 4"/>
          <p:cNvSpPr/>
          <p:nvPr/>
        </p:nvSpPr>
        <p:spPr>
          <a:xfrm>
            <a:off x="2743200" y="3987720"/>
            <a:ext cx="6019920" cy="120168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умма строк 1, 2, 3, 10 должна быть равна сумме строк 7, 8, 9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 в случае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если Клиники ВУЗов и НИИ являются организациями стоматологического профил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9"/>
          <p:cNvSpPr/>
          <p:nvPr/>
        </p:nvSpPr>
        <p:spPr>
          <a:xfrm>
            <a:off x="380880" y="457200"/>
            <a:ext cx="1600200" cy="380880"/>
          </a:xfrm>
          <a:prstGeom prst="rect">
            <a:avLst/>
          </a:prstGeom>
          <a:solidFill>
            <a:srgbClr val="c6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1143000"/>
          <a:ext cx="8001000" cy="4640400"/>
        </p:xfrm>
        <a:graphic>
          <a:graphicData uri="http://schemas.openxmlformats.org/drawingml/2006/table">
            <a:tbl>
              <a:tblPr/>
              <a:tblGrid>
                <a:gridCol w="4435560"/>
                <a:gridCol w="714240"/>
                <a:gridCol w="1430280"/>
                <a:gridCol w="1420920"/>
              </a:tblGrid>
              <a:tr h="133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сещения к врачам амбулаторного приема (кроме стоматологов и зубных врач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30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444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8" name="TextBox 1"/>
          <p:cNvSpPr/>
          <p:nvPr/>
        </p:nvSpPr>
        <p:spPr>
          <a:xfrm>
            <a:off x="457200" y="4738680"/>
            <a:ext cx="6553080" cy="1798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ещения врачей амбулаторного прима (не стоматологического профиля) в т.1000 показываются в графе 1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 могут быть врачи – члх, аллергологи, педиатры, оториноларингологи и т.д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 стоматологического профиля должна быть лиценз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х необходимо включить в табл.800 по соответствующим строкам в гр. 4 (амбулаторные услов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Рисунок 4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: скругленные углы 2"/>
          <p:cNvSpPr/>
          <p:nvPr/>
        </p:nvSpPr>
        <p:spPr>
          <a:xfrm>
            <a:off x="5105520" y="3527280"/>
            <a:ext cx="2133360" cy="60984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3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Прямая со стрелкой 4"/>
          <p:cNvCxnSpPr>
            <a:stCxn id="380" idx="1"/>
          </p:cNvCxnSpPr>
          <p:nvPr/>
        </p:nvCxnSpPr>
        <p:spPr>
          <a:xfrm flipH="1">
            <a:off x="4647960" y="3831840"/>
            <a:ext cx="457920" cy="108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382" name="Прямая со стрелкой 14"/>
          <p:cNvCxnSpPr/>
          <p:nvPr/>
        </p:nvCxnSpPr>
        <p:spPr>
          <a:xfrm flipV="1">
            <a:off x="7010280" y="4190760"/>
            <a:ext cx="991440" cy="20577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5" descr=""/>
          <p:cNvPicPr/>
          <p:nvPr/>
        </p:nvPicPr>
        <p:blipFill>
          <a:blip r:embed="rId2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28875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2284560" y="1357200"/>
            <a:ext cx="65530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. ЛЕЧЕБНО-ПРОФИЛАКТИЧЕСК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 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ОСОБОГО ТИП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ЦИОНАРНЫХ И АМБУЛАТОРНЫХ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УСЛОВИЯ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аблица 0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: скругленные углы 1"/>
          <p:cNvSpPr/>
          <p:nvPr/>
        </p:nvSpPr>
        <p:spPr>
          <a:xfrm>
            <a:off x="1371600" y="2590920"/>
            <a:ext cx="7086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. ТЕХНИЧЕСКОЕ СОСТОЯНИ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ЗДАНИЙ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Прямоугольник: скругленные углы 2"/>
          <p:cNvSpPr/>
          <p:nvPr/>
        </p:nvSpPr>
        <p:spPr>
          <a:xfrm>
            <a:off x="5943600" y="42670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200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6320" y="731880"/>
          <a:ext cx="8839080" cy="5440320"/>
        </p:xfrm>
        <a:graphic>
          <a:graphicData uri="http://schemas.openxmlformats.org/drawingml/2006/table">
            <a:tbl>
              <a:tblPr/>
              <a:tblGrid>
                <a:gridCol w="1371600"/>
                <a:gridCol w="533160"/>
                <a:gridCol w="762120"/>
                <a:gridCol w="762120"/>
                <a:gridCol w="990360"/>
                <a:gridCol w="762120"/>
                <a:gridCol w="762120"/>
                <a:gridCol w="1066680"/>
                <a:gridCol w="914400"/>
                <a:gridCol w="914400"/>
              </a:tblGrid>
              <a:tr h="4953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6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7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Rectangle 29"/>
          <p:cNvSpPr/>
          <p:nvPr/>
        </p:nvSpPr>
        <p:spPr>
          <a:xfrm>
            <a:off x="457200" y="152280"/>
            <a:ext cx="1600200" cy="38124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Рисунок 10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: скругленные углы 2"/>
          <p:cNvSpPr/>
          <p:nvPr/>
        </p:nvSpPr>
        <p:spPr>
          <a:xfrm>
            <a:off x="2057400" y="3124080"/>
            <a:ext cx="6705720" cy="30481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3 не может быть больше графы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должна быть больше суммы граф с 5 по 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может быть больше суммы граф 8 и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 и тоже здание не может быть проставлено и в 5, и в 6, и в 7 граф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фа 4 не может быть меньше любой из граф с 10 по 16 (виды благоустройст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28600" y="914400"/>
          <a:ext cx="8763120" cy="5199120"/>
        </p:xfrm>
        <a:graphic>
          <a:graphicData uri="http://schemas.openxmlformats.org/drawingml/2006/table">
            <a:tbl>
              <a:tblPr/>
              <a:tblGrid>
                <a:gridCol w="1371600"/>
                <a:gridCol w="457200"/>
                <a:gridCol w="1066680"/>
                <a:gridCol w="762120"/>
                <a:gridCol w="887400"/>
                <a:gridCol w="636480"/>
                <a:gridCol w="762120"/>
                <a:gridCol w="1066680"/>
                <a:gridCol w="1087560"/>
                <a:gridCol w="66528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6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тные медицинск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2133720" y="5743440"/>
            <a:ext cx="6629400" cy="3682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Строка 22 переименов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5715000" y="490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Рисунок 8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: скругленные углы 2"/>
          <p:cNvSpPr/>
          <p:nvPr/>
        </p:nvSpPr>
        <p:spPr>
          <a:xfrm>
            <a:off x="2209680" y="2743200"/>
            <a:ext cx="6553440" cy="2666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19 заполняется по медицинским организациям, оказывающим медицинскую помощь в амбулаторных условиях, указанных по строке 2 таблицы 0600, а также стоматологическим поликлиникам, указанным по строке 1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7b78"/>
                </a:solidFill>
                <a:latin typeface="Calibri"/>
              </a:rPr>
              <a:t>Строка 20 заполняется по медицинским организациям, оказывающим медицинскую помощь в амбулаторных условиях, указанных по строке 3 таблицы 0600, а также стоматологическим поликлиникам, указанным по строке 2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1066680"/>
          <a:ext cx="8763120" cy="3713400"/>
        </p:xfrm>
        <a:graphic>
          <a:graphicData uri="http://schemas.openxmlformats.org/drawingml/2006/table">
            <a:tbl>
              <a:tblPr/>
              <a:tblGrid>
                <a:gridCol w="1477800"/>
                <a:gridCol w="351000"/>
                <a:gridCol w="838080"/>
                <a:gridCol w="685800"/>
                <a:gridCol w="838440"/>
                <a:gridCol w="685800"/>
                <a:gridCol w="990360"/>
                <a:gridCol w="762120"/>
                <a:gridCol w="990720"/>
                <a:gridCol w="114300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1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: скругленные углы 1"/>
          <p:cNvSpPr/>
          <p:nvPr/>
        </p:nvSpPr>
        <p:spPr>
          <a:xfrm>
            <a:off x="596880" y="5181480"/>
            <a:ext cx="8305920" cy="1570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4 должна быть равна сумме медицинских организаций, указанных в таблице 0400 по графе 3 строке 1, таблице 0450 графе 3 строке 1, таблице 0600 по графе 3 строке 23, таблица 1500 графа 3 строка 1, таблице 1600 графа 3 строка 1 и таблице 1600 графа 14 строка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: скругленные углы 2"/>
          <p:cNvSpPr/>
          <p:nvPr/>
        </p:nvSpPr>
        <p:spPr>
          <a:xfrm>
            <a:off x="2182680" y="3048120"/>
            <a:ext cx="6705720" cy="160020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3 должна быть равна сумме медицинских организаций, указанных в таблице 0100 по графе 3 строке 43, таблице 0600 по графе 3 строке 22 и таблице 1300 графе 3 строке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457200"/>
            <a:ext cx="167652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4375080" y="68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280" y="944640"/>
          <a:ext cx="8686800" cy="4030560"/>
        </p:xfrm>
        <a:graphic>
          <a:graphicData uri="http://schemas.openxmlformats.org/drawingml/2006/table">
            <a:tbl>
              <a:tblPr/>
              <a:tblGrid>
                <a:gridCol w="3048120"/>
                <a:gridCol w="457200"/>
                <a:gridCol w="914400"/>
                <a:gridCol w="334800"/>
                <a:gridCol w="731880"/>
                <a:gridCol w="1447920"/>
                <a:gridCol w="1752480"/>
              </a:tblGrid>
              <a:tr h="2440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дания которых находятся в аварийном состоянии или требуют сноса, реконструкции, и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 CYR"/>
                          <a:ea typeface="Times New Roman CYR"/>
                        </a:rPr>
                        <a:t>из них находящихся в аварийном состоянии, или требующих сноса, реконструкции и капитального ремон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из них: расположенные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из суммы  строк 25+30):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TextBox 1"/>
          <p:cNvSpPr/>
          <p:nvPr/>
        </p:nvSpPr>
        <p:spPr>
          <a:xfrm>
            <a:off x="755640" y="50292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Данные стр.25 и стр.30 по графам 18 и 19 необходимо сверить с данными за 2020 года. Предоставить пояснительную записку с указанием отклонения по количеству медицинских организаций (гр.19) и площади (гр.18), заверенную ответственным специалистом органа управления субъекта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Общая площадь зданий указывается с 1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Данные по строке 26 должны быть сверены с ф.30 с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5-конечная звезда 2"/>
          <p:cNvSpPr/>
          <p:nvPr/>
        </p:nvSpPr>
        <p:spPr>
          <a:xfrm>
            <a:off x="291960" y="48006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8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7ec492"/>
          </a:solidFill>
          <a:ln w="15840">
            <a:solidFill>
              <a:srgbClr val="117e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Прямая со стрелкой 3"/>
          <p:cNvCxnSpPr/>
          <p:nvPr/>
        </p:nvCxnSpPr>
        <p:spPr>
          <a:xfrm>
            <a:off x="749160" y="3428640"/>
            <a:ext cx="7200" cy="304884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411" name="Рисунок 9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: скругленные углы 1"/>
          <p:cNvSpPr/>
          <p:nvPr/>
        </p:nvSpPr>
        <p:spPr>
          <a:xfrm>
            <a:off x="3782880" y="2800440"/>
            <a:ext cx="5099040" cy="2066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графе 19 ук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исло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имеющих здания, находящиеся в аварийном состоянии или требующие капитального ремо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личество организаций, указанное в графе 19, необходимо согласовать с отделом главного инженера 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нический отдел и т.д.) органа управления  в сфере охраны здоровья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228600" y="1023840"/>
          <a:ext cx="8763120" cy="5114880"/>
        </p:xfrm>
        <a:graphic>
          <a:graphicData uri="http://schemas.openxmlformats.org/drawingml/2006/table">
            <a:tbl>
              <a:tblPr/>
              <a:tblGrid>
                <a:gridCol w="1946160"/>
                <a:gridCol w="392400"/>
                <a:gridCol w="556920"/>
                <a:gridCol w="533520"/>
                <a:gridCol w="533520"/>
                <a:gridCol w="533160"/>
                <a:gridCol w="762120"/>
                <a:gridCol w="533520"/>
                <a:gridCol w="609480"/>
                <a:gridCol w="838080"/>
                <a:gridCol w="533520"/>
                <a:gridCol w="457200"/>
                <a:gridCol w="533520"/>
              </a:tblGrid>
              <a:tr h="304920"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1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круглогодичного функцио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йко-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ступивших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 (из гр. 6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у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до 17 лет вк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9): детей-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2+11+12+13+14+15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3+6+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- профилак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язелечеб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ортны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организац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едерального подчи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4275"/>
          <p:cNvSpPr/>
          <p:nvPr/>
        </p:nvSpPr>
        <p:spPr>
          <a:xfrm>
            <a:off x="2666880" y="320040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3 должна быть равна сумме граф 11+12+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295"/>
          <p:cNvSpPr/>
          <p:nvPr/>
        </p:nvSpPr>
        <p:spPr>
          <a:xfrm>
            <a:off x="2666880" y="3733920"/>
            <a:ext cx="6086520" cy="9903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Распределение числа поступивших лиц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всего – гр.9 = взросл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гр.9-гр.7 = взрослые трудоспособного возра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296"/>
          <p:cNvSpPr/>
          <p:nvPr/>
        </p:nvSpPr>
        <p:spPr>
          <a:xfrm>
            <a:off x="2666880" y="537696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10 показывается из графы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"/>
          <p:cNvSpPr/>
          <p:nvPr/>
        </p:nvSpPr>
        <p:spPr>
          <a:xfrm>
            <a:off x="304920" y="138240"/>
            <a:ext cx="7924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дел 16. Лечебно-профилактические медицинск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анаторно-курортные организаци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600 - 16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: скругленные углы 1"/>
          <p:cNvSpPr/>
          <p:nvPr/>
        </p:nvSpPr>
        <p:spPr>
          <a:xfrm>
            <a:off x="2368440" y="2209680"/>
            <a:ext cx="6048360" cy="16765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ШТАТНЫЕ И ЗАНЯТ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ЧЕСК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Ц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ТИПАМ МЕДИЦИНСК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: скругленные углы 2"/>
          <p:cNvSpPr/>
          <p:nvPr/>
        </p:nvSpPr>
        <p:spPr>
          <a:xfrm>
            <a:off x="5791320" y="44956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762120"/>
          <a:ext cx="8839440" cy="585144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3" name="Rectangle 108"/>
          <p:cNvSpPr/>
          <p:nvPr/>
        </p:nvSpPr>
        <p:spPr>
          <a:xfrm>
            <a:off x="457200" y="309600"/>
            <a:ext cx="152388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030000" y="293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ямоугольник: скругленные углы 1"/>
          <p:cNvSpPr/>
          <p:nvPr/>
        </p:nvSpPr>
        <p:spPr>
          <a:xfrm>
            <a:off x="3962520" y="1616040"/>
            <a:ext cx="5029200" cy="14000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строке 1 показываются данные по вс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рганизациям из таблицы 0100 строки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ез учета строк 6, 21, 25,  27, 42, 43, 44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торые будут указаны в соответствующ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х табли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: скругленные углы 2"/>
          <p:cNvSpPr/>
          <p:nvPr/>
        </p:nvSpPr>
        <p:spPr>
          <a:xfrm>
            <a:off x="4114800" y="3336840"/>
            <a:ext cx="2286000" cy="29116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911680"/>
              <a:gd name="textAreaBottom" fmla="*/ 2800080 h 2911680"/>
            </a:gdLst>
            <a:ahLst/>
            <a:rect l="textAreaLeft" t="textAreaTop" r="textAreaRight" b="textAreaBottom"/>
            <a:pathLst>
              <a:path w="21600" h="27511">
                <a:moveTo>
                  <a:pt x="3600" y="0"/>
                </a:moveTo>
                <a:arcTo wR="3600" hR="3600" stAng="16200000" swAng="-5400000"/>
                <a:lnTo>
                  <a:pt x="0" y="23911"/>
                </a:lnTo>
                <a:arcTo wR="3600" hR="3600" stAng="10800000" swAng="-5400000"/>
                <a:lnTo>
                  <a:pt x="18000" y="27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6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скорой медицинской помощ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 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Прямоугольник: скругленные углы 3"/>
          <p:cNvSpPr/>
          <p:nvPr/>
        </p:nvSpPr>
        <p:spPr>
          <a:xfrm>
            <a:off x="6521400" y="3336840"/>
            <a:ext cx="2398680" cy="2911680"/>
          </a:xfrm>
          <a:custGeom>
            <a:avLst/>
            <a:gdLst>
              <a:gd name="textAreaLeft" fmla="*/ 117000 w 2398680"/>
              <a:gd name="textAreaRight" fmla="*/ 2281680 w 2398680"/>
              <a:gd name="textAreaTop" fmla="*/ 117000 h 2911680"/>
              <a:gd name="textAreaBottom" fmla="*/ 2794680 h 2911680"/>
            </a:gdLst>
            <a:ahLst/>
            <a:rect l="textAreaLeft" t="textAreaTop" r="textAreaRight" b="textAreaBottom"/>
            <a:pathLst>
              <a:path w="21600" h="26219">
                <a:moveTo>
                  <a:pt x="3600" y="0"/>
                </a:moveTo>
                <a:arcTo wR="3600" hR="3600" stAng="16200000" swAng="-5400000"/>
                <a:lnTo>
                  <a:pt x="0" y="22619"/>
                </a:lnTo>
                <a:arcTo wR="3600" hR="3600" stAng="10800000" swAng="-5400000"/>
                <a:lnTo>
                  <a:pt x="18000" y="26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7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и центров переливания кров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Прямоугольник: скругленные углы 4"/>
          <p:cNvSpPr/>
          <p:nvPr/>
        </p:nvSpPr>
        <p:spPr>
          <a:xfrm>
            <a:off x="2666880" y="157320"/>
            <a:ext cx="2590920" cy="572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25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152280" y="762120"/>
          <a:ext cx="8839440" cy="579096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1" name="Rectangle 108"/>
          <p:cNvSpPr/>
          <p:nvPr/>
        </p:nvSpPr>
        <p:spPr>
          <a:xfrm>
            <a:off x="301680" y="76320"/>
            <a:ext cx="1523880" cy="3045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: скругленные углы 1"/>
          <p:cNvSpPr/>
          <p:nvPr/>
        </p:nvSpPr>
        <p:spPr>
          <a:xfrm>
            <a:off x="4124160" y="1819440"/>
            <a:ext cx="4724640" cy="876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19 – медицинские организации особого типа, которые указаны в табл.0100 + табл.0600+ табл.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оугольник: скругленные углы 3"/>
          <p:cNvSpPr/>
          <p:nvPr/>
        </p:nvSpPr>
        <p:spPr>
          <a:xfrm>
            <a:off x="4208400" y="3138480"/>
            <a:ext cx="4699080" cy="12952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27+30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4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Прямоугольник: скругленные углы 4"/>
          <p:cNvSpPr/>
          <p:nvPr/>
        </p:nvSpPr>
        <p:spPr>
          <a:xfrm>
            <a:off x="4241880" y="4815000"/>
            <a:ext cx="4572000" cy="16002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31+32+33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3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Прямая со стрелкой 6"/>
          <p:cNvCxnSpPr/>
          <p:nvPr/>
        </p:nvCxnSpPr>
        <p:spPr>
          <a:xfrm flipV="1">
            <a:off x="3276720" y="2437560"/>
            <a:ext cx="848160" cy="122004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7" name="Прямая со стрелкой 9"/>
          <p:cNvCxnSpPr/>
          <p:nvPr/>
        </p:nvCxnSpPr>
        <p:spPr>
          <a:xfrm flipV="1">
            <a:off x="3962520" y="4433400"/>
            <a:ext cx="381600" cy="1389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8" name="Прямая со стрелкой 16"/>
          <p:cNvCxnSpPr/>
          <p:nvPr/>
        </p:nvCxnSpPr>
        <p:spPr>
          <a:xfrm flipV="1">
            <a:off x="3962520" y="443304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39" name="Прямая соединительная линия 18"/>
          <p:cNvSpPr/>
          <p:nvPr/>
        </p:nvSpPr>
        <p:spPr>
          <a:xfrm>
            <a:off x="6400800" y="442908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Прямая со стрелкой 25"/>
          <p:cNvCxnSpPr/>
          <p:nvPr/>
        </p:nvCxnSpPr>
        <p:spPr>
          <a:xfrm flipV="1">
            <a:off x="4114800" y="458568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41" name="Прямая соединительная линия 27"/>
          <p:cNvSpPr/>
          <p:nvPr/>
        </p:nvSpPr>
        <p:spPr>
          <a:xfrm>
            <a:off x="6558120" y="442116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авая фигурная скобка 22"/>
          <p:cNvSpPr/>
          <p:nvPr/>
        </p:nvSpPr>
        <p:spPr>
          <a:xfrm>
            <a:off x="3809880" y="5614920"/>
            <a:ext cx="432000" cy="86220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862200"/>
              <a:gd name="textAreaBottom" fmla="*/ 85104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1"/>
                  <a:pt x="10800" y="902"/>
                </a:cubicBezTo>
                <a:lnTo>
                  <a:pt x="10800" y="9898"/>
                </a:lnTo>
                <a:cubicBezTo>
                  <a:pt x="10800" y="10349"/>
                  <a:pt x="16200" y="10800"/>
                  <a:pt x="21600" y="10800"/>
                </a:cubicBezTo>
                <a:cubicBezTo>
                  <a:pt x="16200" y="10800"/>
                  <a:pt x="10800" y="11251"/>
                  <a:pt x="10800" y="11702"/>
                </a:cubicBezTo>
                <a:lnTo>
                  <a:pt x="10800" y="20698"/>
                </a:lnTo>
                <a:cubicBezTo>
                  <a:pt x="10800" y="2114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80880" y="13824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52280" y="838080"/>
          <a:ext cx="8839440" cy="5818320"/>
        </p:xfrm>
        <a:graphic>
          <a:graphicData uri="http://schemas.openxmlformats.org/drawingml/2006/table">
            <a:tbl>
              <a:tblPr/>
              <a:tblGrid>
                <a:gridCol w="2819520"/>
                <a:gridCol w="609480"/>
                <a:gridCol w="2567160"/>
                <a:gridCol w="1747800"/>
                <a:gridCol w="1095480"/>
              </a:tblGrid>
              <a:tr h="457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профессиональным (немедицинским) образ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7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45" name="Рисунок 7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: скругленные углы 1"/>
          <p:cNvSpPr/>
          <p:nvPr/>
        </p:nvSpPr>
        <p:spPr>
          <a:xfrm>
            <a:off x="3849840" y="1951200"/>
            <a:ext cx="4760640" cy="1172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9, 10, 11 по сумме строк 27+30 должн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ыть равны графам 3, 4,9 по строке 127+233 табл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100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: скругленные углы 2"/>
          <p:cNvSpPr/>
          <p:nvPr/>
        </p:nvSpPr>
        <p:spPr>
          <a:xfrm>
            <a:off x="3849840" y="3487680"/>
            <a:ext cx="4836960" cy="1389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, кроме того,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ямоугольник: скругленные углы 3"/>
          <p:cNvSpPr/>
          <p:nvPr/>
        </p:nvSpPr>
        <p:spPr>
          <a:xfrm>
            <a:off x="3849840" y="5465880"/>
            <a:ext cx="4952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Прямая со стрелкой 5"/>
          <p:cNvCxnSpPr/>
          <p:nvPr/>
        </p:nvCxnSpPr>
        <p:spPr>
          <a:xfrm>
            <a:off x="3200400" y="6060600"/>
            <a:ext cx="650160" cy="1080"/>
          </a:xfrm>
          <a:prstGeom prst="straightConnector1">
            <a:avLst/>
          </a:prstGeom>
          <a:ln w="31680">
            <a:solidFill>
              <a:srgbClr val="99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440" y="1143000"/>
          <a:ext cx="8763120" cy="5773680"/>
        </p:xfrm>
        <a:graphic>
          <a:graphicData uri="http://schemas.openxmlformats.org/drawingml/2006/table">
            <a:tbl>
              <a:tblPr/>
              <a:tblGrid>
                <a:gridCol w="1752840"/>
                <a:gridCol w="295200"/>
                <a:gridCol w="642960"/>
                <a:gridCol w="696960"/>
                <a:gridCol w="774360"/>
                <a:gridCol w="774720"/>
                <a:gridCol w="930600"/>
                <a:gridCol w="761760"/>
                <a:gridCol w="762120"/>
                <a:gridCol w="679320"/>
                <a:gridCol w="692280"/>
              </a:tblGrid>
              <a:tr h="24624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 -годовые кой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положенных в сельской 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 всего (сумма строк 7-17), 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118"/>
          <p:cNvSpPr/>
          <p:nvPr/>
        </p:nvSpPr>
        <p:spPr>
          <a:xfrm>
            <a:off x="6553080" y="378000"/>
            <a:ext cx="152424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Рисунок 7" descr=""/>
          <p:cNvPicPr/>
          <p:nvPr/>
        </p:nvPicPr>
        <p:blipFill>
          <a:blip r:embed="rId1"/>
          <a:stretch/>
        </p:blipFill>
        <p:spPr>
          <a:xfrm>
            <a:off x="8526600" y="281160"/>
            <a:ext cx="428400" cy="58068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1"/>
          <p:cNvSpPr/>
          <p:nvPr/>
        </p:nvSpPr>
        <p:spPr>
          <a:xfrm>
            <a:off x="7696080" y="2362320"/>
            <a:ext cx="1295640" cy="838080"/>
          </a:xfrm>
          <a:prstGeom prst="ellipse">
            <a:avLst/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Целые чи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Прямая со стрелкой 3"/>
          <p:cNvCxnSpPr/>
          <p:nvPr/>
        </p:nvCxnSpPr>
        <p:spPr>
          <a:xfrm flipH="1" flipV="1">
            <a:off x="7314840" y="2299680"/>
            <a:ext cx="381600" cy="324360"/>
          </a:xfrm>
          <a:prstGeom prst="straightConnector1">
            <a:avLst/>
          </a:prstGeom>
          <a:ln w="698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274" name="Прямоугольник: скругленные углы 4"/>
          <p:cNvSpPr/>
          <p:nvPr/>
        </p:nvSpPr>
        <p:spPr>
          <a:xfrm>
            <a:off x="2508120" y="506520"/>
            <a:ext cx="1524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а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 должна равняться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умме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 с 4 по 6 по всем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рок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: скругленные углы 5"/>
          <p:cNvSpPr/>
          <p:nvPr/>
        </p:nvSpPr>
        <p:spPr>
          <a:xfrm>
            <a:off x="2362320" y="3584520"/>
            <a:ext cx="5943600" cy="2130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организации, закрытые (реорганизованные) на 31.12.отчетного года гр.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3-8) не заполняю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остальным графам – деятельность на дату закрытия (штаты и входящие структурные подразделения – не заполняю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.8 показываем основной коечный фонд (без дополнительно развернутых ко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: скругленные углы 6"/>
          <p:cNvSpPr/>
          <p:nvPr/>
        </p:nvSpPr>
        <p:spPr>
          <a:xfrm>
            <a:off x="189000" y="281160"/>
            <a:ext cx="1792080" cy="2342880"/>
          </a:xfrm>
          <a:custGeom>
            <a:avLst/>
            <a:gdLst>
              <a:gd name="textAreaLeft" fmla="*/ 87480 w 1792080"/>
              <a:gd name="textAreaRight" fmla="*/ 1704600 w 1792080"/>
              <a:gd name="textAreaTop" fmla="*/ 87480 h 2342880"/>
              <a:gd name="textAreaBottom" fmla="*/ 2255400 h 2342880"/>
            </a:gdLst>
            <a:ahLst/>
            <a:rect l="textAreaLeft" t="textAreaTop" r="textAreaRight" b="textAreaBottom"/>
            <a:pathLst>
              <a:path w="21600" h="28237">
                <a:moveTo>
                  <a:pt x="3600" y="0"/>
                </a:moveTo>
                <a:arcTo wR="3600" hR="3600" stAng="16200000" swAng="-5400000"/>
                <a:lnTo>
                  <a:pt x="0" y="24637"/>
                </a:lnTo>
                <a:arcTo wR="3600" hR="3600" stAng="10800000" swAng="-5400000"/>
                <a:lnTo>
                  <a:pt x="18000" y="28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графах 3-7 указывается число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едицинских организаций –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юридических лиц,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существляющих деятельность на 31декабр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тчетного г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457200" y="15228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28600" y="838080"/>
          <a:ext cx="8610480" cy="5748480"/>
        </p:xfrm>
        <a:graphic>
          <a:graphicData uri="http://schemas.openxmlformats.org/drawingml/2006/table">
            <a:tbl>
              <a:tblPr/>
              <a:tblGrid>
                <a:gridCol w="2819520"/>
                <a:gridCol w="457200"/>
                <a:gridCol w="2124000"/>
                <a:gridCol w="1800360"/>
                <a:gridCol w="1409400"/>
              </a:tblGrid>
              <a:tr h="28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2" name="Прямоугольник: скругленные углы 1"/>
          <p:cNvSpPr/>
          <p:nvPr/>
        </p:nvSpPr>
        <p:spPr>
          <a:xfrm>
            <a:off x="3733920" y="1981080"/>
            <a:ext cx="4952880" cy="14479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ы 24, 25, 26 по сумме строк 27+30 должны  быть равны графам 3, 4  по строке 228 +237 таблицы 1100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оугольник: скругленные углы 2"/>
          <p:cNvSpPr/>
          <p:nvPr/>
        </p:nvSpPr>
        <p:spPr>
          <a:xfrm>
            <a:off x="3809880" y="3657600"/>
            <a:ext cx="4876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Прямая со стрелкой 4"/>
          <p:cNvCxnSpPr>
            <a:endCxn id="453" idx="1"/>
          </p:cNvCxnSpPr>
          <p:nvPr/>
        </p:nvCxnSpPr>
        <p:spPr>
          <a:xfrm flipV="1">
            <a:off x="3505320" y="4114440"/>
            <a:ext cx="305280" cy="45792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55" name="Прямая со стрелкой 12"/>
          <p:cNvCxnSpPr/>
          <p:nvPr/>
        </p:nvCxnSpPr>
        <p:spPr>
          <a:xfrm flipV="1">
            <a:off x="3506760" y="4208040"/>
            <a:ext cx="303840" cy="115488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56" name="Прямоугольник: скругленные углы 7"/>
          <p:cNvSpPr/>
          <p:nvPr/>
        </p:nvSpPr>
        <p:spPr>
          <a:xfrm>
            <a:off x="3809880" y="561024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 кроме того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8"/>
          <p:cNvSpPr/>
          <p:nvPr/>
        </p:nvSpPr>
        <p:spPr>
          <a:xfrm>
            <a:off x="5267880" y="320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: скругленные углы 9"/>
          <p:cNvSpPr/>
          <p:nvPr/>
        </p:nvSpPr>
        <p:spPr>
          <a:xfrm>
            <a:off x="4076640" y="4818240"/>
            <a:ext cx="4533840" cy="43956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28 – сверить с формой 30-се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4366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80880" y="152280"/>
          <a:ext cx="8029800" cy="6728040"/>
        </p:xfrm>
        <a:graphic>
          <a:graphicData uri="http://schemas.openxmlformats.org/drawingml/2006/table">
            <a:tbl>
              <a:tblPr/>
              <a:tblGrid>
                <a:gridCol w="2602080"/>
                <a:gridCol w="789120"/>
                <a:gridCol w="771480"/>
                <a:gridCol w="925200"/>
                <a:gridCol w="169920"/>
                <a:gridCol w="228600"/>
                <a:gridCol w="2543400"/>
              </a:tblGrid>
              <a:tr h="57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 №10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исьму Минздрава Ро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               2021 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яснительная за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форме ФСН №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раздел. Изменение сети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юридические л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.ч.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24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медицинских организаций – реорганизация, ликвидация, передача полномочий, объединение и т.д. в соответствии с принятыми в субъекте нормативными документ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920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особленные структурные подразделения медицинской организации, включая передви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 центр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обособленных структурных подразделений  – реорганизация, ликвидация,  объединение и т.д. в соответствии с принятыми в субъекте нормативными докуме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Рисунок 3" descr="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18156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Рисунок 5" descr=""/>
          <p:cNvPicPr/>
          <p:nvPr/>
        </p:nvPicPr>
        <p:blipFill>
          <a:blip r:embed="rId2"/>
          <a:stretch/>
        </p:blipFill>
        <p:spPr>
          <a:xfrm>
            <a:off x="8534520" y="146160"/>
            <a:ext cx="428400" cy="57924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28600" y="1143000"/>
          <a:ext cx="8534520" cy="3552840"/>
        </p:xfrm>
        <a:graphic>
          <a:graphicData uri="http://schemas.openxmlformats.org/drawingml/2006/table">
            <a:tbl>
              <a:tblPr/>
              <a:tblGrid>
                <a:gridCol w="2765520"/>
                <a:gridCol w="838080"/>
                <a:gridCol w="820800"/>
                <a:gridCol w="982800"/>
                <a:gridCol w="3127320"/>
              </a:tblGrid>
              <a:tr h="1922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здел II. Изменение мощности круглосуточ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 (табл.0100 )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(+ , 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ы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го коек на конец года, в т.ч. подчинения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0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причины следует указать при сокращении (увеличении) количества коек – сокращение, увеличение, передача полномочий  и т.д. в соответствии с принятыми в субъекте нормативными документ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8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 руководителя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ответственного лиц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.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. почта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Рисунок 5" descr=""/>
          <p:cNvPicPr/>
          <p:nvPr/>
        </p:nvPicPr>
        <p:blipFill>
          <a:blip r:embed="rId2"/>
          <a:stretch/>
        </p:blipFill>
        <p:spPr>
          <a:xfrm>
            <a:off x="839160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257040" y="873000"/>
            <a:ext cx="8364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форме 47 дополнительно прилагаются следующие пояснительные запис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1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ицинские организации, не соответствующие «Номенклатуре медицинских организаций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казание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ное наименование медицинской организаци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ки и меры по приведению к действующей номенклатур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 федерального подчинения и филиалов федеральных медицинских организаций, расположенных на территории субъекта Российской Федерации и включенных в годовой отч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 или филиала с указанием подчинения (Минздрава России, Академии нау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оугольник 2"/>
          <p:cNvSpPr/>
          <p:nvPr/>
        </p:nvSpPr>
        <p:spPr>
          <a:xfrm>
            <a:off x="654120" y="977760"/>
            <a:ext cx="81532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, оказывающих медицинскую помощь в стационарных условиях, у которых на конец года отсутствуют койки с указание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окращения ко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изменения тип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или заместителем руководителя органа управления здравоохранения субъекта Российской Федерац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4. Таблица 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.25 и 3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.18 и 19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ские организации и площадь в аварийном состоянии (снос, реконструкция, капитальный ремон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ь с уровнем 2020 года, указать отклон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ответственным специалистом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2"/>
          <p:cNvSpPr/>
          <p:nvPr/>
        </p:nvSpPr>
        <p:spPr>
          <a:xfrm>
            <a:off x="291960" y="1219320"/>
            <a:ext cx="853452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сшифровка строки «прочие» по всем табл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дополнительно развернутых коек для оказания медицинской помощи пациентам 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 – временно, на период эпидемии  - для ф.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пояснительную записку с указанием нормативных документов по открытию дополнительных коек по состоянию на 31.12. 2021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профиль коек (инфекционные, реанимационные, интенсивная терапия, иные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3"/>
          <p:cNvSpPr/>
          <p:nvPr/>
        </p:nvSpPr>
        <p:spPr>
          <a:xfrm>
            <a:off x="762120" y="2887560"/>
            <a:ext cx="8076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8"/>
          <p:cNvSpPr/>
          <p:nvPr/>
        </p:nvSpPr>
        <p:spPr>
          <a:xfrm>
            <a:off x="457200" y="457200"/>
            <a:ext cx="152388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572000" y="457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914400"/>
          <a:ext cx="8229600" cy="5181480"/>
        </p:xfrm>
        <a:graphic>
          <a:graphicData uri="http://schemas.openxmlformats.org/drawingml/2006/table">
            <a:tbl>
              <a:tblPr/>
              <a:tblGrid>
                <a:gridCol w="2514600"/>
                <a:gridCol w="533160"/>
                <a:gridCol w="609840"/>
                <a:gridCol w="501480"/>
                <a:gridCol w="646200"/>
                <a:gridCol w="476280"/>
                <a:gridCol w="557280"/>
                <a:gridCol w="763560"/>
                <a:gridCol w="531720"/>
                <a:gridCol w="547560"/>
                <a:gridCol w="54792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 -годовые 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положенных в сельской 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реабили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ы здоровья семьи и репрод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………………</a:t>
                      </a: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. 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из них сурдологи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Рисунок 7" descr=""/>
          <p:cNvPicPr/>
          <p:nvPr/>
        </p:nvPicPr>
        <p:blipFill>
          <a:blip r:embed="rId1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: скругленные углы 2"/>
          <p:cNvSpPr/>
          <p:nvPr/>
        </p:nvSpPr>
        <p:spPr>
          <a:xfrm>
            <a:off x="3759120" y="2895480"/>
            <a:ext cx="4470480" cy="10670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ока 27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жет быть больше суммы строк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c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2 по 33, с 34 по 4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счет «прочих» центров, не поименованных в боковике таблиц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разницу поясни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: скругленные углы 3"/>
          <p:cNvSpPr/>
          <p:nvPr/>
        </p:nvSpPr>
        <p:spPr>
          <a:xfrm>
            <a:off x="3759120" y="537048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озрасчетные медицинские организации- исключ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, оказывающие только платные медицински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Прямая со стрелкой 4"/>
          <p:cNvCxnSpPr/>
          <p:nvPr/>
        </p:nvCxnSpPr>
        <p:spPr>
          <a:xfrm flipH="1">
            <a:off x="2971440" y="5638320"/>
            <a:ext cx="915120" cy="1080"/>
          </a:xfrm>
          <a:prstGeom prst="straightConnector1">
            <a:avLst/>
          </a:prstGeom>
          <a:ln w="25560">
            <a:solidFill>
              <a:srgbClr val="660033"/>
            </a:solidFill>
            <a:miter/>
            <a:tailEnd len="med" type="triangle" w="med"/>
          </a:ln>
        </p:spPr>
      </p:cxnSp>
      <p:sp>
        <p:nvSpPr>
          <p:cNvPr id="285" name="Прямоугольник: скругленные углы 7"/>
          <p:cNvSpPr/>
          <p:nvPr/>
        </p:nvSpPr>
        <p:spPr>
          <a:xfrm>
            <a:off x="3759120" y="423072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веден новый тип медицинской 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Прямая со стрелкой 9"/>
          <p:cNvCxnSpPr>
            <a:stCxn id="285" idx="1"/>
          </p:cNvCxnSpPr>
          <p:nvPr/>
        </p:nvCxnSpPr>
        <p:spPr>
          <a:xfrm flipH="1">
            <a:off x="3047400" y="4687920"/>
            <a:ext cx="711720" cy="342000"/>
          </a:xfrm>
          <a:prstGeom prst="straightConnector1">
            <a:avLst/>
          </a:prstGeom>
          <a:ln w="34920">
            <a:solidFill>
              <a:srgbClr val="6600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8381880" y="90360"/>
            <a:ext cx="428760" cy="5018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: скругленные углы 1"/>
          <p:cNvSpPr/>
          <p:nvPr/>
        </p:nvSpPr>
        <p:spPr>
          <a:xfrm>
            <a:off x="1865160" y="2514600"/>
            <a:ext cx="6934320" cy="914400"/>
          </a:xfrm>
          <a:prstGeom prst="roundRect">
            <a:avLst>
              <a:gd name="adj" fmla="val 16667"/>
            </a:avLst>
          </a:prstGeom>
          <a:solidFill>
            <a:srgbClr val="e9d3bd">
              <a:alpha val="46000"/>
            </a:srgbClr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ВЕД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 ДИСПАНСЕ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Рисунок 6" descr=""/>
          <p:cNvPicPr/>
          <p:nvPr/>
        </p:nvPicPr>
        <p:blipFill>
          <a:blip r:embed="rId2"/>
          <a:stretch/>
        </p:blipFill>
        <p:spPr>
          <a:xfrm>
            <a:off x="8381880" y="76320"/>
            <a:ext cx="42876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6107760" y="228600"/>
            <a:ext cx="2759400" cy="368280"/>
          </a:xfrm>
          <a:prstGeom prst="rect">
            <a:avLst/>
          </a:prstGeom>
          <a:solidFill>
            <a:srgbClr val="e9d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!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Таблица 2" descr=""/>
          <p:cNvPicPr/>
          <p:nvPr/>
        </p:nvPicPr>
        <p:blipFill>
          <a:blip r:embed="rId1"/>
          <a:stretch/>
        </p:blipFill>
        <p:spPr>
          <a:xfrm>
            <a:off x="804960" y="665280"/>
            <a:ext cx="7596000" cy="30351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"/>
          <p:cNvSpPr/>
          <p:nvPr/>
        </p:nvSpPr>
        <p:spPr>
          <a:xfrm>
            <a:off x="1328760" y="2544840"/>
            <a:ext cx="7129440" cy="119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и младшего медицинского персонала  исключ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должностей (штатных/занятых), число физических лиц врачей должно соответствовать данным таблицы 0100+таблица 0600 по соответствующим строкам и таблице 1800 (строка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27000" y="3962520"/>
          <a:ext cx="7531200" cy="1355760"/>
        </p:xfrm>
        <a:graphic>
          <a:graphicData uri="http://schemas.openxmlformats.org/drawingml/2006/table">
            <a:tbl>
              <a:tblPr/>
              <a:tblGrid>
                <a:gridCol w="1846440"/>
                <a:gridCol w="365040"/>
                <a:gridCol w="1065240"/>
                <a:gridCol w="1063440"/>
                <a:gridCol w="1063800"/>
                <a:gridCol w="1063440"/>
                <a:gridCol w="1063800"/>
              </a:tblGrid>
              <a:tr h="121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панс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кое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фактическ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ернутых + свернут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годовы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ило пациентов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ения, оказывающие медицинскую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щ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ельских жителей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семи пациентами койко-дн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</a:tr>
              <a:tr h="13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  <p:sp>
        <p:nvSpPr>
          <p:cNvPr id="295" name="Rectangle 108"/>
          <p:cNvSpPr/>
          <p:nvPr/>
        </p:nvSpPr>
        <p:spPr>
          <a:xfrm>
            <a:off x="304920" y="190440"/>
            <a:ext cx="1600200" cy="38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: скругленные углы 7"/>
          <p:cNvSpPr/>
          <p:nvPr/>
        </p:nvSpPr>
        <p:spPr>
          <a:xfrm>
            <a:off x="927000" y="5791320"/>
            <a:ext cx="75312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по графам 9-13 (строка 10) должны быть равны данным в таблице 0100, графа 8-12 по строке 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Дуга 1"/>
          <p:cNvSpPr/>
          <p:nvPr/>
        </p:nvSpPr>
        <p:spPr>
          <a:xfrm rot="5776800">
            <a:off x="2764800" y="1394640"/>
            <a:ext cx="674640" cy="914400"/>
          </a:xfrm>
          <a:custGeom>
            <a:avLst/>
            <a:gdLst/>
            <a:ahLst/>
            <a:rect l="l" t="t" r="r" b="b"/>
            <a:pathLst>
              <a:path stroke="0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  <a:lnTo>
                  <a:pt x="337344" y="457200"/>
                </a:lnTo>
                <a:lnTo>
                  <a:pt x="337344" y="0"/>
                </a:lnTo>
                <a:close/>
              </a:path>
              <a:path fill="none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ая соединительная линия 5"/>
          <p:cNvSpPr/>
          <p:nvPr/>
        </p:nvSpPr>
        <p:spPr>
          <a:xfrm>
            <a:off x="2954160" y="1905120"/>
            <a:ext cx="327240" cy="0"/>
          </a:xfrm>
          <a:prstGeom prst="line">
            <a:avLst/>
          </a:prstGeom>
          <a:ln w="414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3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Рисунок 4" descr=""/>
          <p:cNvPicPr/>
          <p:nvPr/>
        </p:nvPicPr>
        <p:blipFill>
          <a:blip r:embed="rId1"/>
          <a:stretch/>
        </p:blipFill>
        <p:spPr>
          <a:xfrm>
            <a:off x="8534520" y="50760"/>
            <a:ext cx="428400" cy="5018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: скругленные углы 1"/>
          <p:cNvSpPr/>
          <p:nvPr/>
        </p:nvSpPr>
        <p:spPr>
          <a:xfrm>
            <a:off x="685800" y="1600200"/>
            <a:ext cx="8077320" cy="2286000"/>
          </a:xfrm>
          <a:prstGeom prst="roundRect">
            <a:avLst>
              <a:gd name="adj" fmla="val 16667"/>
            </a:avLst>
          </a:prstGeom>
          <a:solidFill>
            <a:srgbClr val="e9d3bd">
              <a:alpha val="47000"/>
            </a:srgbClr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МЕДИЦИНСКИЕ ОРГАНИЗАЦИИ, 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Х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УЛАТОРИИ, ПОЛИКЛИНИК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СКИЕ КОНСУЛЬТАЦИИ, ДИСПАНСЕРЫ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Ы 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И ОСОБОГО ТИП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ЛЮЧЕНИЕМ СТОМАТОЛОГИЧЕ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КЛИНИК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: скругленные углы 2"/>
          <p:cNvSpPr/>
          <p:nvPr/>
        </p:nvSpPr>
        <p:spPr>
          <a:xfrm>
            <a:off x="6705720" y="41148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5410080" y="4572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52280" y="838080"/>
          <a:ext cx="8763120" cy="4846680"/>
        </p:xfrm>
        <a:graphic>
          <a:graphicData uri="http://schemas.openxmlformats.org/drawingml/2006/table">
            <a:tbl>
              <a:tblPr/>
              <a:tblGrid>
                <a:gridCol w="2536920"/>
                <a:gridCol w="460440"/>
                <a:gridCol w="660240"/>
                <a:gridCol w="609840"/>
                <a:gridCol w="685800"/>
                <a:gridCol w="685800"/>
                <a:gridCol w="761760"/>
                <a:gridCol w="1516320"/>
                <a:gridCol w="8460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</a:tr>
              <a:tr h="20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06" name="Схема 1" descr=""/>
          <p:cNvPicPr/>
          <p:nvPr/>
        </p:nvPicPr>
        <p:blipFill>
          <a:blip r:embed="rId1"/>
          <a:stretch/>
        </p:blipFill>
        <p:spPr>
          <a:xfrm>
            <a:off x="3267000" y="2987640"/>
            <a:ext cx="5585040" cy="9748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76"/>
          <p:cNvSpPr/>
          <p:nvPr/>
        </p:nvSpPr>
        <p:spPr>
          <a:xfrm>
            <a:off x="152280" y="5410080"/>
            <a:ext cx="8763120" cy="45720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В ф.30, таблица  1100 – изменена нумерация стр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: скругленные углы 3"/>
          <p:cNvSpPr/>
          <p:nvPr/>
        </p:nvSpPr>
        <p:spPr>
          <a:xfrm>
            <a:off x="3276720" y="4071960"/>
            <a:ext cx="55623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афы 8, 9 заполняются на основании данных ФФСН №30 таблицы 2100 без учета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оматологов по срокам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87, 88, 89, 90,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Стрелка: вправо 4"/>
          <p:cNvSpPr/>
          <p:nvPr/>
        </p:nvSpPr>
        <p:spPr>
          <a:xfrm rot="16200000">
            <a:off x="6980760" y="4224600"/>
            <a:ext cx="770040" cy="2365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fe3e5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Таблица 1" descr=""/>
          <p:cNvPicPr/>
          <p:nvPr/>
        </p:nvPicPr>
        <p:blipFill>
          <a:blip r:embed="rId1"/>
          <a:stretch/>
        </p:blipFill>
        <p:spPr>
          <a:xfrm>
            <a:off x="523800" y="901800"/>
            <a:ext cx="8029800" cy="521316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5334120" y="4572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: скругленные углы 7"/>
          <p:cNvSpPr/>
          <p:nvPr/>
        </p:nvSpPr>
        <p:spPr>
          <a:xfrm>
            <a:off x="3932280" y="2743200"/>
            <a:ext cx="4602240" cy="16002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3.2  показываем детские поликлиники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11.1 – центры консультативно-диагностические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Данные ------ федеральный прое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: скругленные углы 8"/>
          <p:cNvSpPr/>
          <p:nvPr/>
        </p:nvSpPr>
        <p:spPr>
          <a:xfrm>
            <a:off x="4038480" y="4495680"/>
            <a:ext cx="44960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5 -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Прямая со стрелкой 10"/>
          <p:cNvCxnSpPr>
            <a:endCxn id="315" idx="1"/>
          </p:cNvCxnSpPr>
          <p:nvPr/>
        </p:nvCxnSpPr>
        <p:spPr>
          <a:xfrm>
            <a:off x="3352320" y="4495680"/>
            <a:ext cx="686520" cy="45792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317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cxnSp>
        <p:nvCxnSpPr>
          <p:cNvPr id="318" name="Прямая со стрелкой 12"/>
          <p:cNvCxnSpPr/>
          <p:nvPr/>
        </p:nvCxnSpPr>
        <p:spPr>
          <a:xfrm flipV="1">
            <a:off x="3377880" y="4095000"/>
            <a:ext cx="554760" cy="16326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19" name="Прямая со стрелкой 15"/>
          <p:cNvCxnSpPr/>
          <p:nvPr/>
        </p:nvCxnSpPr>
        <p:spPr>
          <a:xfrm flipV="1">
            <a:off x="3527280" y="3695400"/>
            <a:ext cx="558000" cy="180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Надежда Я. Несветайло</cp:lastModifiedBy>
  <cp:lastPrinted>2020-11-30T08:54:48Z</cp:lastPrinted>
  <dcterms:modified xsi:type="dcterms:W3CDTF">2021-12-07T13:55:17Z</dcterms:modified>
  <cp:revision>1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